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B7D-CCED-4856-B088-39071845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E03-9969-421C-9137-21A1FB83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B81-5521-48E3-B97B-FD7D4A56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0B4-00CD-4DBF-AC40-8A48305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342-9449-4CEC-9BE3-0AF0C00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213-6EFF-40F5-A1C5-2324244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4B0-88C0-4E18-A8E3-4156F93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6E5-9F1B-4277-BB34-470E8A5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DAB-D111-486F-ABEF-57E75A85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8D2-67DA-4844-9E66-2C36C10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60C-BFBF-4165-9858-391B17A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8D8-37E7-40D5-B022-AFDAA54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9928-2A59-4428-AA7F-3DD47F0E2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491000" cy="103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114280" cy="60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58676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47676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914400"/>
            <a:ext cx="7617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600200"/>
            <a:ext cx="2819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7180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77724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77320" cy="200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91320" y="68580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219320"/>
            <a:ext cx="6019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305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2960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914400"/>
            <a:ext cx="1600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752480"/>
            <a:ext cx="3962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670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342900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181480"/>
            <a:ext cx="22860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22:13Z</dcterms:created>
  <dc:creator>grahams</dc:creator>
  <dc:description/>
  <dc:language>en-US</dc:language>
  <cp:lastModifiedBy>grahams</cp:lastModifiedBy>
  <dcterms:modified xsi:type="dcterms:W3CDTF">2012-03-22T12:53:05Z</dcterms:modified>
  <cp:revision>2</cp:revision>
  <dc:subject/>
  <dc:title>Slide 1</dc:title>
</cp:coreProperties>
</file>